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39680" y="715680"/>
            <a:ext cx="4780080" cy="35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move the slide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62AA-F529-4205-9104-CDC11FC5AA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5B27-27A6-4B8D-A424-559E8AC58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56F7-7A33-41EB-AA89-F496595DC7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7709-CF88-4BAF-B238-66FEA162DE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BAB9-BD67-4248-8433-BA187C957F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146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7" descr="logo"/>
          <p:cNvPicPr/>
          <p:nvPr/>
        </p:nvPicPr>
        <p:blipFill>
          <a:blip r:embed="rId2"/>
          <a:stretch/>
        </p:blipFill>
        <p:spPr>
          <a:xfrm>
            <a:off x="763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95680" y="1522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 Black"/>
              </a:rPr>
              <a:t>Who wants to be a Millionaire?</a:t>
            </a:r>
            <a:endParaRPr b="0" lang="en-US" sz="4800" spc="-1" strike="noStrike">
              <a:solidFill>
                <a:srgbClr val="cc66ff"/>
              </a:solidFill>
              <a:latin typeface="Arial Black"/>
            </a:endParaRPr>
          </a:p>
        </p:txBody>
      </p:sp>
      <p:pic>
        <p:nvPicPr>
          <p:cNvPr id="47" name="Picture 5" descr="logo"/>
          <p:cNvPicPr/>
          <p:nvPr/>
        </p:nvPicPr>
        <p:blipFill>
          <a:blip r:embed="rId1"/>
          <a:stretch/>
        </p:blipFill>
        <p:spPr>
          <a:xfrm>
            <a:off x="76320" y="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6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disadvantage of setting up as a corporation is th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ifficulty in raising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power of the dir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complexity &amp; cost of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imited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300" spc="-1" strike="noStrike">
                <a:solidFill>
                  <a:srgbClr val="ffffff"/>
                </a:solidFill>
                <a:latin typeface="Arial Black"/>
              </a:rPr>
              <a:t>complexity &amp; cost of establish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32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Consumer product Safety Commission ca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make businesses recall &amp; stop selling a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lose an unsaf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take away the license of a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osecute a business for selling an unsafe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make businesses recall &amp; stop selling a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64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layout for a wholesale or manufacturing business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must be physically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s un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hould emphasize efficiency &amp;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none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hould emphasize efficiency &amp;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25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60948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mportant factors in determining where an industrial business locat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availability of good employees &amp; low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ubsidized rents &amp; availability of p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nvenience &amp; on-sit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900" spc="-1" strike="noStrike">
                <a:solidFill>
                  <a:srgbClr val="ffffff"/>
                </a:solidFill>
                <a:latin typeface="Arial Black"/>
              </a:rPr>
              <a:t>closeness to housing developments &amp; low co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availability of good employees &amp;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5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estimate of how much you will pay for merchandise from a supplier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seasonal dis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the financial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qu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n in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qu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50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disadvantage of a stand-alone store i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rent is often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no anchor stores to help attract custom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t attracts only local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t lacks parking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no anchor stores to help attract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,00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Operating costs of a franchi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nclude a fee for writing the franchise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re paid by the franch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clude a fee for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re usually less than 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clude a fee for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The Prizes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190512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2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5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4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,0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5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2,0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6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4,0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7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8,0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876920" y="1866960"/>
            <a:ext cx="41907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8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9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0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1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2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2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2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3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5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4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advantage of buying an existing business is tha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olicies &amp; procedures are already establ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a large amount of capital is no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t is financially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300" spc="-1" strike="noStrike">
                <a:solidFill>
                  <a:srgbClr val="ffffff"/>
                </a:solidFill>
                <a:latin typeface="Arial Black"/>
              </a:rPr>
              <a:t>it has a reputation with custom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olicies &amp; procedures are already establ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85800" y="2286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important factor in determining where an industrial business locates i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nven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vailability of p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-sit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ow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ow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5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685800" y="2362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advantage of setting up a business as a corporation is th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bility to raise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istribution of pro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taxation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ease of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bility to raise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5800" y="2286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estimate of how much you will pay for merchandise from a supplier i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dis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qu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the balance d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n in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qu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8580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legal right to exclusive publication, production, sale, or distribution of a literary or artistic work is 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3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trade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4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5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6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icense to pub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4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Entrepreneurs who work for their family business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200" spc="-1" strike="noStrike">
                <a:solidFill>
                  <a:srgbClr val="ffffff"/>
                </a:solidFill>
                <a:latin typeface="Arial Black"/>
              </a:rPr>
              <a:t>cannot make all decision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</a:t>
            </a:r>
            <a:r>
              <a:rPr b="0" lang="en-GB" sz="2500" spc="-1" strike="noStrike">
                <a:solidFill>
                  <a:srgbClr val="ffffff"/>
                </a:solidFill>
                <a:latin typeface="Arial Black"/>
              </a:rPr>
              <a:t>must be prepared to compromi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300" spc="-1" strike="noStrike">
                <a:solidFill>
                  <a:srgbClr val="ffffff"/>
                </a:solidFill>
                <a:latin typeface="Arial Black"/>
              </a:rPr>
              <a:t>must enjoy working with relativ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ll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ll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8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85800" y="160020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antitrust law that makes it illegal for a business to charge different prices to different groups of nonretail consumers is t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layt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her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Robinson-Pat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Wheeler-Lea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?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Robinson-Pat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2:35:07Z</dcterms:created>
  <dc:creator>Alison J. Purvis</dc:creator>
  <dc:description/>
  <dc:language>en-US</dc:language>
  <cp:lastModifiedBy>tmsadmin</cp:lastModifiedBy>
  <cp:lastPrinted>2000-12-04T09:55:57Z</cp:lastPrinted>
  <dcterms:modified xsi:type="dcterms:W3CDTF">2014-05-12T12:50:24Z</dcterms:modified>
  <cp:revision>73</cp:revision>
  <dc:subject/>
  <dc:title>Who wants to be a Physiology Millionaire?</dc:title>
</cp:coreProperties>
</file>